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B68-9464-427F-9E8F-5CEAB633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13B-3BE6-40F7-9B1A-81271260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677-41A7-4618-BFA8-1DF81A22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A323-B76D-4048-8DAD-98FE0E1B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B125-8FFA-45F4-A379-8876D2B5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0A1-3F3D-4BC1-AEF7-67A1A525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07D1-C6B2-4531-9897-8B94F259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6F7-2BED-49B6-8C57-E39E9243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5D2-6845-4170-85D2-91BB4B83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B91C-21DB-4398-8797-9E7407E1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30F-DF90-4091-98E6-AA30A4CA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682-C392-4FAB-BA43-6453F178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8D5B-0E0E-426E-B473-D91ED8B19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M 4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. Robert A. Perk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3 Duck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74 76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frap@uaf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faculty.uaf.edu/ffra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BET1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BET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627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BET3" descr=""/>
          <p:cNvPicPr/>
          <p:nvPr/>
        </p:nvPicPr>
        <p:blipFill>
          <a:blip r:embed="rId1"/>
          <a:stretch/>
        </p:blipFill>
        <p:spPr>
          <a:xfrm>
            <a:off x="503280" y="2017800"/>
            <a:ext cx="813744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BET4" descr=""/>
          <p:cNvPicPr/>
          <p:nvPr/>
        </p:nvPicPr>
        <p:blipFill>
          <a:blip r:embed="rId1"/>
          <a:stretch/>
        </p:blipFill>
        <p:spPr>
          <a:xfrm>
            <a:off x="307800" y="1589040"/>
            <a:ext cx="85266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CE statement of Body of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s to ABET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762120"/>
            <a:ext cx="8077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. an ability to apply knowledge in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alized area related to ci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. an understanding of the elements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ject management, construction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et manag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. an understanding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siness and public policy and 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dament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0:08:46Z</dcterms:created>
  <dc:creator>Robert A. Perkins</dc:creator>
  <dc:description/>
  <dc:language>en-US</dc:language>
  <cp:lastModifiedBy>Robert A. Perkins</cp:lastModifiedBy>
  <dcterms:modified xsi:type="dcterms:W3CDTF">2007-01-19T21:37:05Z</dcterms:modified>
  <cp:revision>5</cp:revision>
  <dc:subject/>
  <dc:title>ESM 450</dc:title>
</cp:coreProperties>
</file>